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D2A-72AE-491B-8A85-82254B76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16F-3FFF-49F3-8164-ACC8275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1F5-EC68-4060-9E46-428CD90F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ED3-5D8C-47B6-A238-D18D7826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FFD-819C-4F4B-824C-36962D8B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D51-CBAA-44E2-B0D3-0582D25C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4D2-F9E8-4523-8753-7A258B4F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0EB-42E7-4484-9094-DC53FEF4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65C-5DC0-47CC-A41D-1A4830DE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B69-8245-4912-A09E-D755796D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E57-E1B2-46EB-8632-3021AE3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166-7AB6-4F28-8CDB-4ABE6A43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EFA-B751-4377-8FAC-31C89BB25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Click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882800"/>
            <a:ext cx="89154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600200" y="1828800"/>
            <a:ext cx="1722600" cy="181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038320" cy="209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1752840" cy="139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00800" y="4343400"/>
            <a:ext cx="16192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3116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438640" cy="124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1639800" cy="2128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156060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334120" y="1752480"/>
            <a:ext cx="22096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8765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2819520" cy="171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253224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24480" y="4038480"/>
            <a:ext cx="1417680" cy="2194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981080" y="3962520"/>
            <a:ext cx="1752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8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562720" y="4343400"/>
            <a:ext cx="1825560" cy="185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1263600" cy="189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486400" y="1905120"/>
            <a:ext cx="1752480" cy="16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066680" y="1523880"/>
            <a:ext cx="257652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57440" y="2057400"/>
            <a:ext cx="43005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6:24:43Z</dcterms:created>
  <dc:creator>Rosalind Boccheciamp</dc:creator>
  <dc:description/>
  <dc:language>en-US</dc:language>
  <cp:lastModifiedBy>FDLRS</cp:lastModifiedBy>
  <dcterms:modified xsi:type="dcterms:W3CDTF">2005-07-19T14:30:11Z</dcterms:modified>
  <cp:revision>15</cp:revision>
  <dc:subject/>
  <dc:title>Find the House</dc:title>
</cp:coreProperties>
</file>